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C643-EC04-4668-AA70-9F6C3823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3460-26C8-4B54-B4FC-B2B5BC85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1B33-4022-498B-9BFD-4D38B9C7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46DA-A3FA-42A2-BF99-ADACE5EA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3CBD-1CB6-4501-8D10-576C9F21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6688-D968-4C63-B0DC-A147DA87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EAAF-E930-4D1D-B788-5D483620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8387-DF47-4AD2-BF34-937B27DA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A44C-E7B8-48D4-ADB3-6E4F5449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DD05-0DC0-4C4F-93DC-DEDB8D4E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C1AC-9D48-406F-B4E7-43600F85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7511-9503-4AE3-9161-E505D891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E460-49F8-482D-9C50-E0349E1E1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決定性プッシュダウン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547640" y="620640"/>
                <a:ext cx="54486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1187280" y="1341360"/>
            <a:ext cx="6264360" cy="544680"/>
            <a:chOff x="1187280" y="1341360"/>
            <a:chExt cx="6264360" cy="544680"/>
          </a:xfrm>
        </p:grpSpPr>
        <p:sp>
          <p:nvSpPr>
            <p:cNvPr id="44" name=""/>
            <p:cNvSpPr/>
            <p:nvPr/>
          </p:nvSpPr>
          <p:spPr>
            <a:xfrm>
              <a:off x="1187280" y="1341360"/>
              <a:ext cx="626436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476360" y="1341360"/>
                  <a:ext cx="4208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340000" y="134136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1989000"/>
            <a:ext cx="6264360" cy="574560"/>
            <a:chOff x="1187280" y="1989000"/>
            <a:chExt cx="6264360" cy="574560"/>
          </a:xfrm>
        </p:grpSpPr>
        <p:sp>
          <p:nvSpPr>
            <p:cNvPr id="48" name=""/>
            <p:cNvSpPr/>
            <p:nvPr/>
          </p:nvSpPr>
          <p:spPr>
            <a:xfrm>
              <a:off x="1187280" y="198900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476360" y="2060640"/>
                  <a:ext cx="649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340000" y="20606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508640"/>
            <a:ext cx="6264360" cy="609480"/>
            <a:chOff x="1187280" y="4508640"/>
            <a:chExt cx="6264360" cy="609480"/>
          </a:xfrm>
        </p:grpSpPr>
        <p:sp>
          <p:nvSpPr>
            <p:cNvPr id="52" name=""/>
            <p:cNvSpPr/>
            <p:nvPr/>
          </p:nvSpPr>
          <p:spPr>
            <a:xfrm>
              <a:off x="1187280" y="450864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4508640"/>
                  <a:ext cx="468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411280" y="4581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64000" y="4508640"/>
                  <a:ext cx="10810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187280" y="3284640"/>
            <a:ext cx="6264360" cy="1123920"/>
            <a:chOff x="1187280" y="3284640"/>
            <a:chExt cx="6264360" cy="1123920"/>
          </a:xfrm>
        </p:grpSpPr>
        <p:sp>
          <p:nvSpPr>
            <p:cNvPr id="57" name=""/>
            <p:cNvSpPr/>
            <p:nvPr/>
          </p:nvSpPr>
          <p:spPr>
            <a:xfrm>
              <a:off x="1187280" y="3284640"/>
              <a:ext cx="6264360" cy="11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476360" y="3327480"/>
                  <a:ext cx="4064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411280" y="33274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1563840" y="3803760"/>
                  <a:ext cx="5730840" cy="58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Γ</m:t>
                              </m:r>
                            </m:e>
                            <m:sup/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1187280" y="2708280"/>
            <a:ext cx="6264360" cy="504720"/>
            <a:chOff x="1187280" y="2708280"/>
            <a:chExt cx="6264360" cy="504720"/>
          </a:xfrm>
        </p:grpSpPr>
        <p:sp>
          <p:nvSpPr>
            <p:cNvPr id="62" name=""/>
            <p:cNvSpPr/>
            <p:nvPr/>
          </p:nvSpPr>
          <p:spPr>
            <a:xfrm>
              <a:off x="1187280" y="270828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476360" y="2708280"/>
                  <a:ext cx="7142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411280" y="270828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プッシュダウン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187280" y="5229360"/>
            <a:ext cx="6264360" cy="574560"/>
            <a:chOff x="1187280" y="5229360"/>
            <a:chExt cx="6264360" cy="574560"/>
          </a:xfrm>
        </p:grpSpPr>
        <p:sp>
          <p:nvSpPr>
            <p:cNvPr id="66" name=""/>
            <p:cNvSpPr/>
            <p:nvPr/>
          </p:nvSpPr>
          <p:spPr>
            <a:xfrm>
              <a:off x="1187280" y="522936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476360" y="5229360"/>
                  <a:ext cx="476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484360" y="5229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ボトムマーカ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364000" y="5229360"/>
                  <a:ext cx="1068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1187280" y="5877000"/>
            <a:ext cx="6264360" cy="609480"/>
            <a:chOff x="1187280" y="5877000"/>
            <a:chExt cx="6264360" cy="609480"/>
          </a:xfrm>
        </p:grpSpPr>
        <p:sp>
          <p:nvSpPr>
            <p:cNvPr id="71" name=""/>
            <p:cNvSpPr/>
            <p:nvPr/>
          </p:nvSpPr>
          <p:spPr>
            <a:xfrm>
              <a:off x="1187280" y="587700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476360" y="5948280"/>
                  <a:ext cx="441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2411280" y="5948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5435640" y="5948280"/>
                  <a:ext cx="1068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6227640" y="3716280"/>
            <a:ext cx="1368720" cy="7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08720" y="2997360"/>
            <a:ext cx="1440000" cy="576000"/>
          </a:xfrm>
          <a:prstGeom prst="wedgeRoundRectCallout">
            <a:avLst>
              <a:gd name="adj1" fmla="val -43717"/>
              <a:gd name="adj2" fmla="val 90495"/>
              <a:gd name="adj3" fmla="val 16667"/>
            </a:avLst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67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68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68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68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69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69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3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75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75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76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76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76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76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1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2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83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83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83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83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84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84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5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90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90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91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91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91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92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5796000" y="836640"/>
            <a:ext cx="3097080" cy="1368360"/>
            <a:chOff x="5796000" y="836640"/>
            <a:chExt cx="3097080" cy="1368360"/>
          </a:xfrm>
        </p:grpSpPr>
        <p:sp>
          <p:nvSpPr>
            <p:cNvPr id="956" name=""/>
            <p:cNvSpPr/>
            <p:nvPr/>
          </p:nvSpPr>
          <p:spPr>
            <a:xfrm>
              <a:off x="5796000" y="836640"/>
              <a:ext cx="3097080" cy="1368360"/>
            </a:xfrm>
            <a:prstGeom prst="wedgeRoundRectCallout">
              <a:avLst>
                <a:gd name="adj1" fmla="val 24578"/>
                <a:gd name="adj2" fmla="val 159282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156360" y="90792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4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8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98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98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99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99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99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00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8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9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0" name=""/>
          <p:cNvGrpSpPr/>
          <p:nvPr/>
        </p:nvGrpSpPr>
        <p:grpSpPr>
          <a:xfrm>
            <a:off x="3708360" y="1916280"/>
            <a:ext cx="3527640" cy="1225440"/>
            <a:chOff x="3708360" y="1916280"/>
            <a:chExt cx="3527640" cy="1225440"/>
          </a:xfrm>
        </p:grpSpPr>
        <p:sp>
          <p:nvSpPr>
            <p:cNvPr id="1041" name=""/>
            <p:cNvSpPr/>
            <p:nvPr/>
          </p:nvSpPr>
          <p:spPr>
            <a:xfrm>
              <a:off x="3708360" y="1916280"/>
              <a:ext cx="3527640" cy="1225440"/>
            </a:xfrm>
            <a:prstGeom prst="wedgeRoundRectCallout">
              <a:avLst>
                <a:gd name="adj1" fmla="val -73041"/>
                <a:gd name="adj2" fmla="val 176425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824280" y="207972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遡って，今度は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6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07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07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07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07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08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08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1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3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8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51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152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155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158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161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164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167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9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9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1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3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3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3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23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23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24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24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24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24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5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5" name=""/>
          <p:cNvSpPr/>
          <p:nvPr/>
        </p:nvSpPr>
        <p:spPr>
          <a:xfrm>
            <a:off x="4427640" y="609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1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31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31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32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32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32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33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5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5" name=""/>
          <p:cNvSpPr/>
          <p:nvPr/>
        </p:nvSpPr>
        <p:spPr>
          <a:xfrm>
            <a:off x="4859280" y="6093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859280" y="6669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4952880" y="114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39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39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40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40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40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41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2340000" y="3429000"/>
            <a:ext cx="2736720" cy="1368360"/>
            <a:chOff x="2340000" y="3429000"/>
            <a:chExt cx="2736720" cy="1368360"/>
          </a:xfrm>
        </p:grpSpPr>
        <p:sp>
          <p:nvSpPr>
            <p:cNvPr id="1448" name=""/>
            <p:cNvSpPr/>
            <p:nvPr/>
          </p:nvSpPr>
          <p:spPr>
            <a:xfrm>
              <a:off x="2340000" y="3429000"/>
              <a:ext cx="2736720" cy="1368360"/>
            </a:xfrm>
            <a:prstGeom prst="wedgeRoundRectCallout">
              <a:avLst>
                <a:gd name="adj1" fmla="val 73319"/>
                <a:gd name="adj2" fmla="val 59282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627280" y="371628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れ以上，遷移でき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116000" y="260280"/>
                <a:ext cx="577836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" name=""/>
          <p:cNvGrpSpPr/>
          <p:nvPr/>
        </p:nvGrpSpPr>
        <p:grpSpPr>
          <a:xfrm>
            <a:off x="1187280" y="907920"/>
            <a:ext cx="6264360" cy="520560"/>
            <a:chOff x="1187280" y="907920"/>
            <a:chExt cx="6264360" cy="520560"/>
          </a:xfrm>
        </p:grpSpPr>
        <p:sp>
          <p:nvSpPr>
            <p:cNvPr id="79" name=""/>
            <p:cNvSpPr/>
            <p:nvPr/>
          </p:nvSpPr>
          <p:spPr>
            <a:xfrm>
              <a:off x="1187280" y="920520"/>
              <a:ext cx="6264360" cy="47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697040" y="907920"/>
                  <a:ext cx="343224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1187280" y="1484280"/>
            <a:ext cx="6264360" cy="515880"/>
            <a:chOff x="1187280" y="1484280"/>
            <a:chExt cx="6264360" cy="515880"/>
          </a:xfrm>
        </p:grpSpPr>
        <p:sp>
          <p:nvSpPr>
            <p:cNvPr id="82" name=""/>
            <p:cNvSpPr/>
            <p:nvPr/>
          </p:nvSpPr>
          <p:spPr>
            <a:xfrm>
              <a:off x="1187280" y="1484280"/>
              <a:ext cx="626436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619280" y="1557360"/>
                  <a:ext cx="260820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87280" y="2060640"/>
            <a:ext cx="6264360" cy="512280"/>
            <a:chOff x="1187280" y="2060640"/>
            <a:chExt cx="6264360" cy="512280"/>
          </a:xfrm>
        </p:grpSpPr>
        <p:sp>
          <p:nvSpPr>
            <p:cNvPr id="85" name=""/>
            <p:cNvSpPr/>
            <p:nvPr/>
          </p:nvSpPr>
          <p:spPr>
            <a:xfrm>
              <a:off x="1187280" y="206064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692360" y="2131920"/>
                  <a:ext cx="208908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"/>
          <p:cNvGrpSpPr/>
          <p:nvPr/>
        </p:nvGrpSpPr>
        <p:grpSpPr>
          <a:xfrm>
            <a:off x="1187280" y="5950080"/>
            <a:ext cx="6264360" cy="576000"/>
            <a:chOff x="1187280" y="5950080"/>
            <a:chExt cx="6264360" cy="576000"/>
          </a:xfrm>
        </p:grpSpPr>
        <p:sp>
          <p:nvSpPr>
            <p:cNvPr id="88" name=""/>
            <p:cNvSpPr/>
            <p:nvPr/>
          </p:nvSpPr>
          <p:spPr>
            <a:xfrm>
              <a:off x="1187280" y="5950080"/>
              <a:ext cx="6264360" cy="57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1763640" y="6021360"/>
                  <a:ext cx="1201680" cy="4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" name=""/>
          <p:cNvGrpSpPr/>
          <p:nvPr/>
        </p:nvGrpSpPr>
        <p:grpSpPr>
          <a:xfrm>
            <a:off x="1187280" y="2637000"/>
            <a:ext cx="6264360" cy="3240000"/>
            <a:chOff x="1187280" y="2637000"/>
            <a:chExt cx="6264360" cy="3240000"/>
          </a:xfrm>
        </p:grpSpPr>
        <p:sp>
          <p:nvSpPr>
            <p:cNvPr id="91" name=""/>
            <p:cNvSpPr/>
            <p:nvPr/>
          </p:nvSpPr>
          <p:spPr>
            <a:xfrm>
              <a:off x="1187280" y="2637000"/>
              <a:ext cx="6264360" cy="324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1547640" y="2708280"/>
                  <a:ext cx="547236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Γ</m:t>
                              </m:r>
                            </m:e>
                            <m:sup/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835280" y="3357720"/>
                  <a:ext cx="5317920" cy="23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1619280" y="2349360"/>
            <a:ext cx="61214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b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，２通りの遷移の可能性があるが，受理条件を満たす様相（すなわち，入力を読み終え，状態が受理状態で，かつプッシュダウンスタックが空である様相）に到達する遷移が可能なので，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b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633680" y="0"/>
                <a:ext cx="55371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ccc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3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2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3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4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5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6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8" name=""/>
          <p:cNvSpPr/>
          <p:nvPr/>
        </p:nvSpPr>
        <p:spPr>
          <a:xfrm>
            <a:off x="529272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900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78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479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482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485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7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488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491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494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6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4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1403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55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55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56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56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56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57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3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4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5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9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2" name=""/>
          <p:cNvSpPr/>
          <p:nvPr/>
        </p:nvSpPr>
        <p:spPr>
          <a:xfrm>
            <a:off x="450072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50072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1908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2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633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636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639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642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4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645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648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1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7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2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4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3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4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5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6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7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8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9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2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12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713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716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719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722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725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7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728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0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1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2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4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6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7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8" name=""/>
          <p:cNvGrpSpPr/>
          <p:nvPr/>
        </p:nvGrpSpPr>
        <p:grpSpPr>
          <a:xfrm>
            <a:off x="4211640" y="3500280"/>
            <a:ext cx="3527280" cy="1728720"/>
            <a:chOff x="4211640" y="3500280"/>
            <a:chExt cx="3527280" cy="1728720"/>
          </a:xfrm>
        </p:grpSpPr>
        <p:sp>
          <p:nvSpPr>
            <p:cNvPr id="1769" name=""/>
            <p:cNvSpPr/>
            <p:nvPr/>
          </p:nvSpPr>
          <p:spPr>
            <a:xfrm>
              <a:off x="4211640" y="3500280"/>
              <a:ext cx="3527280" cy="1728720"/>
            </a:xfrm>
            <a:prstGeom prst="wedgeRoundRectCallout">
              <a:avLst>
                <a:gd name="adj1" fmla="val -86995"/>
                <a:gd name="adj2" fmla="val -6120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356000" y="3787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の時点で，２つの選択肢があるが，まず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4356000" y="609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4356000" y="66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9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79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80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80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80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81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81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3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7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67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7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87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88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88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88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89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89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1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5364000" y="333360"/>
            <a:ext cx="2737080" cy="1368360"/>
            <a:chOff x="5364000" y="333360"/>
            <a:chExt cx="2737080" cy="1368360"/>
          </a:xfrm>
        </p:grpSpPr>
        <p:sp>
          <p:nvSpPr>
            <p:cNvPr id="1930" name=""/>
            <p:cNvSpPr/>
            <p:nvPr/>
          </p:nvSpPr>
          <p:spPr>
            <a:xfrm>
              <a:off x="5364000" y="333360"/>
              <a:ext cx="2737080" cy="1368360"/>
            </a:xfrm>
            <a:prstGeom prst="wedgeRoundRectCallout">
              <a:avLst>
                <a:gd name="adj1" fmla="val -102032"/>
                <a:gd name="adj2" fmla="val 12621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651640" y="62064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れ以上，遷移でき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9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5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8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58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959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962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4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965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7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968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971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3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974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6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7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8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9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0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1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2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3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14" name=""/>
          <p:cNvGrpSpPr/>
          <p:nvPr/>
        </p:nvGrpSpPr>
        <p:grpSpPr>
          <a:xfrm>
            <a:off x="4067280" y="2421000"/>
            <a:ext cx="3527280" cy="1295280"/>
            <a:chOff x="4067280" y="2421000"/>
            <a:chExt cx="3527280" cy="1295280"/>
          </a:xfrm>
        </p:grpSpPr>
        <p:sp>
          <p:nvSpPr>
            <p:cNvPr id="2015" name=""/>
            <p:cNvSpPr/>
            <p:nvPr/>
          </p:nvSpPr>
          <p:spPr>
            <a:xfrm>
              <a:off x="4067280" y="2421000"/>
              <a:ext cx="3527280" cy="1295280"/>
            </a:xfrm>
            <a:prstGeom prst="wedgeRoundRectCallout">
              <a:avLst>
                <a:gd name="adj1" fmla="val -83393"/>
                <a:gd name="adj2" fmla="val 124754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211640" y="263700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遡って，今度は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4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3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4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04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04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05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05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05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05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8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1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3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5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6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15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2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12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12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13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13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13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14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5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7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651640" y="4005360"/>
            <a:ext cx="751320" cy="720720"/>
            <a:chOff x="5651640" y="4005360"/>
            <a:chExt cx="751320" cy="720720"/>
          </a:xfrm>
        </p:grpSpPr>
        <p:sp>
          <p:nvSpPr>
            <p:cNvPr id="95" name=""/>
            <p:cNvSpPr/>
            <p:nvPr/>
          </p:nvSpPr>
          <p:spPr>
            <a:xfrm flipH="1">
              <a:off x="6259320" y="439236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51640" y="40053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274920" y="4005360"/>
            <a:ext cx="752400" cy="720720"/>
            <a:chOff x="3274920" y="4005360"/>
            <a:chExt cx="752400" cy="720720"/>
          </a:xfrm>
        </p:grpSpPr>
        <p:sp>
          <p:nvSpPr>
            <p:cNvPr id="98" name=""/>
            <p:cNvSpPr/>
            <p:nvPr/>
          </p:nvSpPr>
          <p:spPr>
            <a:xfrm flipH="1">
              <a:off x="3883320" y="4392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74920" y="4005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010880" y="4057560"/>
            <a:ext cx="770760" cy="763560"/>
            <a:chOff x="1010880" y="4057560"/>
            <a:chExt cx="770760" cy="763560"/>
          </a:xfrm>
        </p:grpSpPr>
        <p:sp>
          <p:nvSpPr>
            <p:cNvPr id="101" name=""/>
            <p:cNvSpPr/>
            <p:nvPr/>
          </p:nvSpPr>
          <p:spPr>
            <a:xfrm flipV="1">
              <a:off x="1010880" y="416016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1012400">
              <a:off x="1040760" y="407880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508720" y="1844640"/>
            <a:ext cx="751320" cy="720720"/>
            <a:chOff x="5508720" y="1844640"/>
            <a:chExt cx="751320" cy="720720"/>
          </a:xfrm>
        </p:grpSpPr>
        <p:sp>
          <p:nvSpPr>
            <p:cNvPr id="104" name=""/>
            <p:cNvSpPr/>
            <p:nvPr/>
          </p:nvSpPr>
          <p:spPr>
            <a:xfrm flipH="1">
              <a:off x="6116400" y="2231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08720" y="1844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132000" y="1916280"/>
            <a:ext cx="752400" cy="720720"/>
            <a:chOff x="3132000" y="1916280"/>
            <a:chExt cx="752400" cy="720720"/>
          </a:xfrm>
        </p:grpSpPr>
        <p:sp>
          <p:nvSpPr>
            <p:cNvPr id="107" name=""/>
            <p:cNvSpPr/>
            <p:nvPr/>
          </p:nvSpPr>
          <p:spPr>
            <a:xfrm flipH="1">
              <a:off x="3740400" y="23029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32000" y="19162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044720" y="2852640"/>
            <a:ext cx="751320" cy="720720"/>
            <a:chOff x="1044720" y="2852640"/>
            <a:chExt cx="751320" cy="720720"/>
          </a:xfrm>
        </p:grpSpPr>
        <p:sp>
          <p:nvSpPr>
            <p:cNvPr id="110" name=""/>
            <p:cNvSpPr/>
            <p:nvPr/>
          </p:nvSpPr>
          <p:spPr>
            <a:xfrm flipH="1">
              <a:off x="1652400" y="3239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44720" y="2852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124000" y="6021360"/>
                <a:ext cx="3527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68360" y="692280"/>
                <a:ext cx="4013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627280" y="0"/>
                <a:ext cx="3403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V="1">
            <a:off x="1763640" y="299700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4760" y="278136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35772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072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84920" y="353844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58000" y="3611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55640" y="2349360"/>
                <a:ext cx="1152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885080" y="3500280"/>
                <a:ext cx="541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276720" y="24210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189080" y="350028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71640" y="4869000"/>
                <a:ext cx="9363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132000" y="1484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050920" y="2852640"/>
                <a:ext cx="719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140360" y="2276640"/>
                <a:ext cx="96660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50872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4581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4581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724360" y="242100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867280" y="4581360"/>
                <a:ext cx="505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436920" y="4562640"/>
                <a:ext cx="4698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763640" y="4005360"/>
            <a:ext cx="15130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2997360"/>
            <a:ext cx="144000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43640" y="4149360"/>
            <a:ext cx="129708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40280" y="500868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54400" y="3573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284720" y="450864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364000" y="1413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580000" y="3645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588000" y="278136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588000" y="3860640"/>
                <a:ext cx="9162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124000" y="386064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1116000" y="549360"/>
            <a:ext cx="532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56000" y="620640"/>
                <a:ext cx="1224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403280" y="54936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916360" y="620640"/>
                <a:ext cx="15494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835280" y="549360"/>
            <a:ext cx="396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5805360"/>
            <a:ext cx="504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195640" y="6021360"/>
                <a:ext cx="36320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900000" y="5805360"/>
            <a:ext cx="6120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68360" y="6021360"/>
                <a:ext cx="4589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971640" y="5734080"/>
            <a:ext cx="648000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484360" y="6021360"/>
                <a:ext cx="33530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187280" y="5805360"/>
            <a:ext cx="59058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484360" y="6021360"/>
                <a:ext cx="36784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1403280" y="5734080"/>
            <a:ext cx="511344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700360" y="6021360"/>
                <a:ext cx="3348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476360" y="5805360"/>
            <a:ext cx="532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771640" y="6021360"/>
                <a:ext cx="3382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1547640" y="5805360"/>
            <a:ext cx="504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987640" y="6021360"/>
                <a:ext cx="3095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763640" y="5805360"/>
            <a:ext cx="496908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059280" y="6021360"/>
                <a:ext cx="32558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835280" y="5805360"/>
            <a:ext cx="518472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132000" y="6021360"/>
                <a:ext cx="3113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050920" y="5805360"/>
            <a:ext cx="4932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276720" y="6021360"/>
                <a:ext cx="34560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2195640" y="5805360"/>
            <a:ext cx="5256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7" name=""/>
          <p:cNvSpPr/>
          <p:nvPr/>
        </p:nvSpPr>
        <p:spPr>
          <a:xfrm>
            <a:off x="4427640" y="609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0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20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21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21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21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22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22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3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1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7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8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7" name=""/>
          <p:cNvSpPr/>
          <p:nvPr/>
        </p:nvSpPr>
        <p:spPr>
          <a:xfrm>
            <a:off x="5003640" y="6093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8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28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29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29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29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30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30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2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6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55" name=""/>
          <p:cNvSpPr/>
          <p:nvPr/>
        </p:nvSpPr>
        <p:spPr>
          <a:xfrm>
            <a:off x="5580000" y="6093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580000" y="6669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4952880" y="114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6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36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36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37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37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37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38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0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3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7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8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9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0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1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9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41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442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4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445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7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448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0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451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454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457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7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3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8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1" name=""/>
          <p:cNvGrpSpPr/>
          <p:nvPr/>
        </p:nvGrpSpPr>
        <p:grpSpPr>
          <a:xfrm>
            <a:off x="5867280" y="549360"/>
            <a:ext cx="2592360" cy="1584360"/>
            <a:chOff x="5867280" y="549360"/>
            <a:chExt cx="2592360" cy="1584360"/>
          </a:xfrm>
        </p:grpSpPr>
        <p:sp>
          <p:nvSpPr>
            <p:cNvPr id="2492" name=""/>
            <p:cNvSpPr/>
            <p:nvPr/>
          </p:nvSpPr>
          <p:spPr>
            <a:xfrm>
              <a:off x="5867280" y="549360"/>
              <a:ext cx="2592360" cy="1584360"/>
            </a:xfrm>
            <a:prstGeom prst="wedgeRoundRectCallout">
              <a:avLst>
                <a:gd name="adj1" fmla="val 37689"/>
                <a:gd name="adj2" fmla="val 146791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012000" y="76500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2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"/>
          <p:cNvSpPr/>
          <p:nvPr/>
        </p:nvSpPr>
        <p:spPr>
          <a:xfrm>
            <a:off x="1619280" y="2349360"/>
            <a:ext cx="6265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c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も，２通りの遷移の可能性があるが，受理条件を満たす様相に到達する遷移が可能なので，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c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も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"/>
          <p:cNvSpPr/>
          <p:nvPr/>
        </p:nvSpPr>
        <p:spPr>
          <a:xfrm>
            <a:off x="395280" y="404640"/>
            <a:ext cx="8424720" cy="410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6" name=""/>
          <p:cNvGrpSpPr/>
          <p:nvPr/>
        </p:nvGrpSpPr>
        <p:grpSpPr>
          <a:xfrm>
            <a:off x="5722920" y="2997360"/>
            <a:ext cx="752400" cy="720720"/>
            <a:chOff x="5722920" y="2997360"/>
            <a:chExt cx="752400" cy="720720"/>
          </a:xfrm>
        </p:grpSpPr>
        <p:sp>
          <p:nvSpPr>
            <p:cNvPr id="2497" name=""/>
            <p:cNvSpPr/>
            <p:nvPr/>
          </p:nvSpPr>
          <p:spPr>
            <a:xfrm flipH="1">
              <a:off x="633132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72292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9" name=""/>
          <p:cNvGrpSpPr/>
          <p:nvPr/>
        </p:nvGrpSpPr>
        <p:grpSpPr>
          <a:xfrm>
            <a:off x="3346560" y="2997360"/>
            <a:ext cx="751320" cy="720720"/>
            <a:chOff x="3346560" y="2997360"/>
            <a:chExt cx="751320" cy="720720"/>
          </a:xfrm>
        </p:grpSpPr>
        <p:sp>
          <p:nvSpPr>
            <p:cNvPr id="2500" name=""/>
            <p:cNvSpPr/>
            <p:nvPr/>
          </p:nvSpPr>
          <p:spPr>
            <a:xfrm flipH="1">
              <a:off x="3954240" y="338436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346560" y="29973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2" name=""/>
          <p:cNvGrpSpPr/>
          <p:nvPr/>
        </p:nvGrpSpPr>
        <p:grpSpPr>
          <a:xfrm>
            <a:off x="1081800" y="3049200"/>
            <a:ext cx="771840" cy="763920"/>
            <a:chOff x="1081800" y="3049200"/>
            <a:chExt cx="771840" cy="763920"/>
          </a:xfrm>
        </p:grpSpPr>
        <p:sp>
          <p:nvSpPr>
            <p:cNvPr id="2503" name=""/>
            <p:cNvSpPr/>
            <p:nvPr/>
          </p:nvSpPr>
          <p:spPr>
            <a:xfrm flipV="1">
              <a:off x="1081800" y="315216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rot="11012400">
              <a:off x="1112400" y="30708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5" name=""/>
          <p:cNvGrpSpPr/>
          <p:nvPr/>
        </p:nvGrpSpPr>
        <p:grpSpPr>
          <a:xfrm>
            <a:off x="5580000" y="836640"/>
            <a:ext cx="752400" cy="720720"/>
            <a:chOff x="5580000" y="836640"/>
            <a:chExt cx="752400" cy="720720"/>
          </a:xfrm>
        </p:grpSpPr>
        <p:sp>
          <p:nvSpPr>
            <p:cNvPr id="2506" name=""/>
            <p:cNvSpPr/>
            <p:nvPr/>
          </p:nvSpPr>
          <p:spPr>
            <a:xfrm flipH="1">
              <a:off x="6188400" y="122328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580000" y="83664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8" name=""/>
          <p:cNvGrpSpPr/>
          <p:nvPr/>
        </p:nvGrpSpPr>
        <p:grpSpPr>
          <a:xfrm>
            <a:off x="3203640" y="907920"/>
            <a:ext cx="751320" cy="720720"/>
            <a:chOff x="3203640" y="907920"/>
            <a:chExt cx="751320" cy="720720"/>
          </a:xfrm>
        </p:grpSpPr>
        <p:sp>
          <p:nvSpPr>
            <p:cNvPr id="2509" name=""/>
            <p:cNvSpPr/>
            <p:nvPr/>
          </p:nvSpPr>
          <p:spPr>
            <a:xfrm flipH="1">
              <a:off x="3811320" y="12949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203640" y="9079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1" name=""/>
          <p:cNvGrpSpPr/>
          <p:nvPr/>
        </p:nvGrpSpPr>
        <p:grpSpPr>
          <a:xfrm>
            <a:off x="1116000" y="1844640"/>
            <a:ext cx="752400" cy="720720"/>
            <a:chOff x="1116000" y="1844640"/>
            <a:chExt cx="752400" cy="720720"/>
          </a:xfrm>
        </p:grpSpPr>
        <p:sp>
          <p:nvSpPr>
            <p:cNvPr id="2512" name=""/>
            <p:cNvSpPr/>
            <p:nvPr/>
          </p:nvSpPr>
          <p:spPr>
            <a:xfrm flipH="1">
              <a:off x="1724400" y="223128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116000" y="184464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 flipV="1">
            <a:off x="1835280" y="1989000"/>
            <a:ext cx="1368360" cy="7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3956040" y="177336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611280" y="234936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042920" y="2421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132000" y="141300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7756560" y="2530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7829640" y="2603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826920" y="13413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7956720" y="2492280"/>
                <a:ext cx="5410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3348000" y="141300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1260360" y="249228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1042920" y="3860640"/>
                <a:ext cx="936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3203640" y="476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2122560" y="184464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4211640" y="126828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29" name=""/>
          <p:cNvSpPr/>
          <p:nvPr/>
        </p:nvSpPr>
        <p:spPr>
          <a:xfrm>
            <a:off x="5580000" y="141300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3274920" y="3573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5722920" y="3573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5796000" y="1413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5938920" y="3573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3508200" y="3554280"/>
                <a:ext cx="4701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35" name=""/>
          <p:cNvSpPr/>
          <p:nvPr/>
        </p:nvSpPr>
        <p:spPr>
          <a:xfrm>
            <a:off x="1835280" y="299736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372360" y="1989000"/>
            <a:ext cx="143964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 flipV="1">
            <a:off x="6515280" y="3141360"/>
            <a:ext cx="129672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4111560" y="400068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9" name=""/>
              <p:cNvSpPr txBox="1"/>
              <p:nvPr/>
            </p:nvSpPr>
            <p:spPr>
              <a:xfrm>
                <a:off x="3325680" y="2565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0" name=""/>
              <p:cNvSpPr txBox="1"/>
              <p:nvPr/>
            </p:nvSpPr>
            <p:spPr>
              <a:xfrm>
                <a:off x="4356000" y="350028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1" name=""/>
              <p:cNvSpPr txBox="1"/>
              <p:nvPr/>
            </p:nvSpPr>
            <p:spPr>
              <a:xfrm>
                <a:off x="5435640" y="40464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2" name=""/>
              <p:cNvSpPr txBox="1"/>
              <p:nvPr/>
            </p:nvSpPr>
            <p:spPr>
              <a:xfrm>
                <a:off x="5651640" y="263700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3" name=""/>
              <p:cNvSpPr txBox="1"/>
              <p:nvPr/>
            </p:nvSpPr>
            <p:spPr>
              <a:xfrm>
                <a:off x="6659640" y="177336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4" name=""/>
              <p:cNvSpPr txBox="1"/>
              <p:nvPr/>
            </p:nvSpPr>
            <p:spPr>
              <a:xfrm>
                <a:off x="6659640" y="285264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5" name=""/>
              <p:cNvSpPr txBox="1"/>
              <p:nvPr/>
            </p:nvSpPr>
            <p:spPr>
              <a:xfrm>
                <a:off x="2195640" y="285264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6" name=""/>
              <p:cNvSpPr txBox="1"/>
              <p:nvPr/>
            </p:nvSpPr>
            <p:spPr>
              <a:xfrm>
                <a:off x="476280" y="5373720"/>
                <a:ext cx="78310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7" name=""/>
          <p:cNvSpPr/>
          <p:nvPr/>
        </p:nvSpPr>
        <p:spPr>
          <a:xfrm>
            <a:off x="539640" y="4869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39640" y="6021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619280" y="0"/>
                <a:ext cx="5567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cc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29272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900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0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01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04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07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10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13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16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403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6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77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80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83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86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89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92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450072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0072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908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35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35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36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36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36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37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43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43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44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44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44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45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0" name=""/>
          <p:cNvGrpSpPr/>
          <p:nvPr/>
        </p:nvGrpSpPr>
        <p:grpSpPr>
          <a:xfrm>
            <a:off x="4211640" y="3500280"/>
            <a:ext cx="3527280" cy="1728720"/>
            <a:chOff x="4211640" y="3500280"/>
            <a:chExt cx="3527280" cy="1728720"/>
          </a:xfrm>
        </p:grpSpPr>
        <p:sp>
          <p:nvSpPr>
            <p:cNvPr id="491" name=""/>
            <p:cNvSpPr/>
            <p:nvPr/>
          </p:nvSpPr>
          <p:spPr>
            <a:xfrm>
              <a:off x="4211640" y="3500280"/>
              <a:ext cx="3527280" cy="1728720"/>
            </a:xfrm>
            <a:prstGeom prst="wedgeRoundRectCallout">
              <a:avLst>
                <a:gd name="adj1" fmla="val -86995"/>
                <a:gd name="adj2" fmla="val -6120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56000" y="3787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の時点で，２つの選択肢があるが，まず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4356000" y="609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56000" y="66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52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52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52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52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53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53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9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60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60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60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60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61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61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4:32:37Z</dcterms:modified>
  <cp:revision>33</cp:revision>
  <dc:subject/>
  <dc:title>PowerPoint プレゼンテーション</dc:title>
</cp:coreProperties>
</file>